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8FE-A863-4750-9E2B-217C4409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801-85F0-4A60-A583-3DE1D3EE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F9F-D58D-4D61-8982-6C144786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6FD-EAA6-446F-A6B1-1A7E92C0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9F9D-3CFC-46E9-AF92-EFBCBFAD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D2BC-82D8-476D-8B4E-3587DE99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5521-DA0B-4CF7-8F2D-602EE96A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C1BC-9AB6-42D0-AD1A-30B284E3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31C9-0D84-4428-849F-764636FD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55B6-6CA3-4F9A-AB20-362CDA5D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0B0C-E9E7-42AC-96AA-832F64E4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4BF-5826-4031-97F3-2BC8DCB1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278B-FB09-49F4-BB70-4A9DD245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17E7-981A-4B0B-B551-91C60F9E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4712-DBF2-4ABF-BBF6-60B2DDBB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7BD4-FEA0-4E66-A66C-F1D67218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EC29-A54F-47C6-A74F-D2F1FBA7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24C-A6A0-4CC5-BE46-D97111B4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F43-2433-4818-959F-A3705BD9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2D4-C222-43EC-8518-296739B4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94A-71C8-4206-BF3D-1DE73ACB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5B8-ED9A-4B72-97BE-71B3B79A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341-29BF-4C97-8279-D9DD008E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A1A-51EE-481F-9AE7-69592257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D25A-5C4F-4167-86E8-BFF573DD77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93FE-34E8-49F1-B485-53515A4CD2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atholic Piety, Leisure, and Recre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ler Kehoe &amp; Jake Berly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u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ucated El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culture, such as festivals, among common people increa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ite had previously shared excitement for popular culture but now saw its vulgarity, sin and disor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paration in the educated upper class and the common people played a role in future class confli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tholic Pie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holics- More baroque 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stants- Less emotional 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gion still practiced by most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95% of people still practic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holic religion brought unity through processions and holiday festiv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oliday atmosphere sometimes reigned on longer processions, with drinking and dancing and couples disappearing into the woods.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Holiday Atmosphe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oliday atmosphere sometimes reigned on longer processions, with drinking and dancing and couples disappearing into the woods.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to draw the lin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ests who want to purify Cathlolic Church who discarded paganistic holiday views. (basically get rid of religious holiday celebration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lergy who thought the piety of the Catholic Church should be more relaxed and let 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esult!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iests of the Catholic Church realized that there was no compromise with the clergy and varied by terri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eph I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1431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isure and Recre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ni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ligious celebration seen in festivals and processions in the Catholic areas around Mediterranean Euro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nival came before Lent on a few days in February or M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a wild release of frustration through drinking masquerading and dancing that could be enjoyed before the sacrifices of L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veryday Leis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socialized in groups due to the culture being more oral than writ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es sat around fireplaces and told stories, sang, danced,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 drank in public places; most towns had a tav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gathered in someone’s house and talked, sewed, and discussed possible suitors for the younger wo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musement in Cities/Tow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in Urban Fairs which offered food, circuses, optical illusions and open air performanc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tator Sports such as horse races, boxing matches, and bullfigh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racted all social cla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rcialization of amusement in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- events paid 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 S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lba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bull staked to a chain in a courtyard at an inn 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ed by dogs for clients amus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ckfigh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ters trained by owners and armed with spur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placed in a small ring and fought to the 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jured or dead animals were butchered and sold as m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2:43Z</dcterms:created>
  <dc:creator>MNS</dc:creator>
  <dc:description/>
  <dc:language>en-US</dc:language>
  <cp:lastModifiedBy>MNS</cp:lastModifiedBy>
  <dcterms:modified xsi:type="dcterms:W3CDTF">2009-12-07T15:06:57Z</dcterms:modified>
  <cp:revision>6</cp:revision>
  <dc:subject/>
  <dc:title>Catholic Piety, Leisure, and Recreation</dc:title>
</cp:coreProperties>
</file>